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5EB-A097-4B84-A900-791557E3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A21-6751-4D60-AF03-9CF07387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CE8-A64E-4572-8357-2951C1DC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4BE-2EB5-44F5-9939-702DB34E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81C6-9C55-40F7-BB8E-40FB2AB4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4ED2-D4C1-44C5-B722-71CCB2E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62F-8525-4EC2-A3C6-D796221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D8E4-385D-4531-93AE-22CB34B2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893D-A78B-4132-9D2A-F58939C4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AE68-687D-4522-8B52-AECEB0B9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0CDB-202B-4336-8B12-C114989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C3B-CEC4-4EEF-9DAE-0D2B7652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2616-C958-4FE3-A10E-B5406F5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72FB-DD20-4105-9DF3-979B9113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341C-75B5-4141-9F63-A23E8CA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51DE-4978-4585-85C1-FDB7D777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384-E6D3-4E65-BC1E-A0A45A3C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C41-FD25-4EF4-9050-A36D6BC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5C9-B3DC-4C22-BE1E-71560426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9A0-CB03-410E-B45B-C9AB92D1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978-901F-4091-8012-750D57F8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7FB-2A13-4BAF-A706-7DEBB0D8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B54-4E37-4284-B223-90BD5300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300-449A-4B9F-8B8A-75FA235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C1365-CE98-4B7D-8AC0-FC10EEEB0806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39BAA-B502-4C94-BB22-D91249621D5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ABBB6-0454-45F4-9A6A-E6EE7B5F68D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E19E4-30CD-4590-B38C-DA9A0D19F3C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ills for aquatic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tle cavity functions as lung for terrestrial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857320" cy="406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238560" y="1676520"/>
            <a:ext cx="2476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llusk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549360" y="1676520"/>
            <a:ext cx="8042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tle produces a shell in most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scular foot &amp;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all brain with ventral nerve cor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most species are hermaphrodites with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 digestive tract with specialized regions (mouth, pharynx, etc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en system with dorsal hear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*cephalopods are an exception with close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irculatory syste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phridia (primitive kidney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3:36:10Z</dcterms:modified>
  <cp:revision>7</cp:revision>
  <dc:subject/>
  <dc:title>Animal Phyla Chart</dc:title>
</cp:coreProperties>
</file>